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86D-E3AA-4531-9EDD-622CB0CE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9FF-DAA4-47BC-8BB3-E1A26E4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805-A1F1-4F97-B3CC-7559B8E3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EC5-151F-4198-B849-D151C0B2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673-4026-4AFD-8130-F5773531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5B8-3A5A-4891-9FE3-F9E6A15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F95-54AA-4E90-A93C-22AFCD9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E73-B1FD-4DCB-A3EB-5649F21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ECB-22B4-409E-9721-3D3996A5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1FA-9F67-42E0-96B0-874EB126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240-70B3-4EE6-B58E-27370FA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26B-B4C6-4E8F-9FAB-AF1483F0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EEC-3DEE-470D-A294-DE494ABD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HYBRID DESIG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020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411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24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63680" y="51055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5308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40000" y="44197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The control for an earlier case may b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late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4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386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7086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31200" cy="123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9152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315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0-02T17:25:30Z</dcterms:modified>
  <cp:revision>107</cp:revision>
  <dc:subject/>
  <dc:title>The Art in the State of the Art</dc:title>
</cp:coreProperties>
</file>